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5CF-7383-43E5-9BE7-12F5CE26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60D-8B74-40F7-8BCD-7D309167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77A-5294-47A4-B0C1-06C18BA1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ADC-8842-4E20-9A16-6A288A25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75D-7950-4F99-85F7-B5E20CDC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BF7-4AC6-4246-BC25-A0D4D1FC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D58-49D1-44B5-A5C3-91A2152C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90B-9865-45EF-A6C5-A1D83A13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F05-83A0-4D3C-A25D-69F5DDF9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387-FCD6-4036-B8EF-D09FCFDE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EC0-9D85-44A0-B62D-314C3A7D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98E-9F77-4B79-BA43-D7AA3488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5ACE-AC99-4CFA-BC1F-34E82CCD8B9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ferente cinematográfico de Edipo 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5790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ula Zaragoza Balle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eselza\Escritorio\referents\edipo-esfinge.jpg"/>
          <p:cNvPicPr/>
          <p:nvPr/>
        </p:nvPicPr>
        <p:blipFill>
          <a:blip r:embed="rId1"/>
          <a:stretch/>
        </p:blipFill>
        <p:spPr>
          <a:xfrm>
            <a:off x="2744640" y="1905120"/>
            <a:ext cx="3578400" cy="3609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La trag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ta tragedia cuenta la historia de Edipo, que abandonado por sus padres y guiado por las predicciones de los oráculos acaba matando a su padre Layo y casandose con su propia madre. La investigación que lleva a cabo acabara por implicarle directamente con los hechos. La tragedia deja el final abierto, por lo que es referente de cine de aventuras e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Edipo r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tragedia se puede separar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dicción del oráculo y abandono d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uida de su destino que le llevara al cruce de caminos donde mata a su verdadero pad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solución del enigma que planteaba la esfi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atrimonio con Yocasta, su madre biolog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vestigación que le dara la clave de su propia culp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eva predicción del oráculo que le posiciona como culpable de la muerte de su pad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icidio de Yoca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ferente en el c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e referente deja películas en las cuales se preocupan por investigar para llegar al conocimiento verdadero. Este referente se resemantiza en películas de aventuras y tambíen de enredo o aventuras. Normalmente deja un final abierto para que se puede continuar. En el cine podemos encontrar varias películas que tienen este refer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interp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derosa afro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rnie la lad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aja de mú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insoportable levedad del s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Documents and Settings\eselza\Escritorio\referents\la-interprete.jpg"/>
          <p:cNvPicPr/>
          <p:nvPr/>
        </p:nvPicPr>
        <p:blipFill>
          <a:blip r:embed="rId1"/>
          <a:stretch/>
        </p:blipFill>
        <p:spPr>
          <a:xfrm>
            <a:off x="6934320" y="2819520"/>
            <a:ext cx="1987560" cy="28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eselza\Escritorio\referents\poderosaafrodita-300a.jpg"/>
          <p:cNvPicPr/>
          <p:nvPr/>
        </p:nvPicPr>
        <p:blipFill>
          <a:blip r:embed="rId2"/>
          <a:stretch/>
        </p:blipFill>
        <p:spPr>
          <a:xfrm>
            <a:off x="4971960" y="4038480"/>
            <a:ext cx="1836720" cy="2590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eselza\Escritorio\referents\52pic.jpg"/>
          <p:cNvPicPr/>
          <p:nvPr/>
        </p:nvPicPr>
        <p:blipFill>
          <a:blip r:embed="rId1"/>
          <a:stretch/>
        </p:blipFill>
        <p:spPr>
          <a:xfrm>
            <a:off x="380880" y="228600"/>
            <a:ext cx="2222640" cy="311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eselza\Escritorio\referents\edipo2.jpg"/>
          <p:cNvPicPr/>
          <p:nvPr/>
        </p:nvPicPr>
        <p:blipFill>
          <a:blip r:embed="rId2"/>
          <a:stretch/>
        </p:blipFill>
        <p:spPr>
          <a:xfrm>
            <a:off x="4876920" y="304920"/>
            <a:ext cx="3657600" cy="2914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0" y="34290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350532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Edipo apartado de su casa en su na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91320" y="3276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Edipo y la esfin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C:\Documents and Settings\eselza\Escritorio\referents\42pic2.jpg"/>
          <p:cNvPicPr/>
          <p:nvPr/>
        </p:nvPicPr>
        <p:blipFill>
          <a:blip r:embed="rId3"/>
          <a:stretch/>
        </p:blipFill>
        <p:spPr>
          <a:xfrm>
            <a:off x="2743200" y="609480"/>
            <a:ext cx="2014560" cy="3452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352680" y="41148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Yoca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9" descr="C:\Documents and Settings\eselza\Escritorio\referents\laius_kidnapping_chrysippus_4.jpg"/>
          <p:cNvPicPr/>
          <p:nvPr/>
        </p:nvPicPr>
        <p:blipFill>
          <a:blip r:embed="rId4"/>
          <a:stretch/>
        </p:blipFill>
        <p:spPr>
          <a:xfrm>
            <a:off x="5410080" y="3657600"/>
            <a:ext cx="3200400" cy="2733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6400800" y="6400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Yocasta y L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Documents and Settings\eselza\Escritorio\referents\lucha_edipo.jpg"/>
          <p:cNvPicPr/>
          <p:nvPr/>
        </p:nvPicPr>
        <p:blipFill>
          <a:blip r:embed="rId5"/>
          <a:stretch/>
        </p:blipFill>
        <p:spPr>
          <a:xfrm>
            <a:off x="380880" y="434340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62" name="11 Flecha izquierda"/>
          <p:cNvSpPr/>
          <p:nvPr/>
        </p:nvSpPr>
        <p:spPr>
          <a:xfrm>
            <a:off x="4000680" y="6000840"/>
            <a:ext cx="714240" cy="50004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6:32:34Z</dcterms:created>
  <dc:creator>eselza</dc:creator>
  <dc:description/>
  <dc:language>en-US</dc:language>
  <cp:lastModifiedBy>pc</cp:lastModifiedBy>
  <dcterms:modified xsi:type="dcterms:W3CDTF">2010-05-19T16:13:20Z</dcterms:modified>
  <cp:revision>3</cp:revision>
  <dc:subject/>
  <dc:title>Referente cinematográfico de Edipo Rey</dc:title>
</cp:coreProperties>
</file>